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74F4-2CAC-476F-835E-A87D672AE4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ll students that the graph on the left shows exponential growth while the graph on the right shows exponential dec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the for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ss through the points (0, 1) and (1, 0) becau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is an asympt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y the graph and observe what happens to the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ll of the graph will always pass through the point (0, 1) and ask students to give you the reason for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hat wh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greater than 1 the graph shows an exponential increase for positiv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Whe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etween 0 and 1, the graph shows an exponential decrease for positiv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sk students to explain why the graph will never touch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381-F554-4F52-81C8-EC0D93B8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8F7-205A-46AB-9377-A4D4203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9BF-729B-44E7-A559-58864595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809-9A2B-4FE2-AB30-FAAB40E6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52E-C51B-49A3-A800-470FD384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D5E-A489-46AA-B1C9-4615E16C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0B6-6EB7-4F3E-A73E-489714F6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91F-277E-4C15-8972-7923D248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5FE-FE44-4CB3-B425-43C77C9D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C96-0E15-45A6-9C29-AB28C30F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5CB-1BBD-4355-9A14-094A9AB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905-AF55-4AF4-AF60-1FFEA12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AE48-4E56-4641-A341-623C03A94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3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1916280"/>
            <a:ext cx="0" cy="3889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05264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nking the exponential function an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2060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isit Unit 1 Functions and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708280"/>
            <a:ext cx="439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GB" sz="18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i="1" lang="en-GB" sz="1800" spc="-1" strike="noStrike" baseline="30000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has an inver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lle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573360"/>
            <a:ext cx="439272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i="1" lang="en-GB" sz="2400" spc="-1" strike="noStrike" baseline="30000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=  log 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the for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508640"/>
            <a:ext cx="439272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en-GB" sz="2400" spc="-1" strike="noStrike" baseline="30000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log </a:t>
            </a:r>
            <a:r>
              <a:rPr b="0" lang="en-GB" sz="24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1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333360"/>
          </a:xfrm>
          <a:prstGeom prst="rect">
            <a:avLst/>
          </a:prstGeom>
          <a:solidFill>
            <a:srgbClr val="bbe0e3">
              <a:alpha val="7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927000"/>
            <a:ext cx="873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66"/>
                </a:solidFill>
                <a:latin typeface="Times New Roman"/>
              </a:rPr>
              <a:t>Remember, the general form of an exponential function to the base </a:t>
            </a:r>
            <a:r>
              <a:rPr b="0" i="1" lang="en-US" sz="22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10066"/>
                </a:solidFill>
                <a:latin typeface="Times New Roman"/>
              </a:rPr>
              <a:t>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05080" y="1647720"/>
            <a:ext cx="4535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=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i="1" lang="en-GB" sz="2400" spc="-1" strike="noStrike" baseline="30000">
                <a:solidFill>
                  <a:srgbClr val="010066"/>
                </a:solidFill>
                <a:latin typeface="Times New Roman"/>
              </a:rPr>
              <a:t>x  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re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&gt; 0 and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≠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9480" y="558972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n both cases the graph passes through (0, 1) and (1, </a:t>
            </a:r>
            <a:r>
              <a:rPr b="0" i="1" lang="en-US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14920" y="2295360"/>
            <a:ext cx="4308480" cy="3149640"/>
            <a:chOff x="4714920" y="2295360"/>
            <a:chExt cx="4308480" cy="3149640"/>
          </a:xfrm>
        </p:grpSpPr>
        <p:grpSp>
          <p:nvGrpSpPr>
            <p:cNvPr id="65" name=""/>
            <p:cNvGrpSpPr/>
            <p:nvPr/>
          </p:nvGrpSpPr>
          <p:grpSpPr>
            <a:xfrm>
              <a:off x="4859280" y="3213000"/>
              <a:ext cx="3419640" cy="2232000"/>
              <a:chOff x="4859280" y="3213000"/>
              <a:chExt cx="3419640" cy="2232000"/>
            </a:xfrm>
          </p:grpSpPr>
          <p:sp>
            <p:nvSpPr>
              <p:cNvPr id="66" name=""/>
              <p:cNvSpPr/>
              <p:nvPr/>
            </p:nvSpPr>
            <p:spPr>
              <a:xfrm>
                <a:off x="4859280" y="3213000"/>
                <a:ext cx="3419640" cy="2232000"/>
              </a:xfrm>
              <a:prstGeom prst="rect">
                <a:avLst/>
              </a:prstGeom>
              <a:solidFill>
                <a:srgbClr val="d5dce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38920" y="3392280"/>
                <a:ext cx="3058920" cy="1871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714920" y="2295360"/>
              <a:ext cx="4308480" cy="3014640"/>
              <a:chOff x="4714920" y="2295360"/>
              <a:chExt cx="4308480" cy="3014640"/>
            </a:xfrm>
          </p:grpSpPr>
          <p:sp>
            <p:nvSpPr>
              <p:cNvPr id="69" name=""/>
              <p:cNvSpPr/>
              <p:nvPr/>
            </p:nvSpPr>
            <p:spPr>
              <a:xfrm>
                <a:off x="4714920" y="2295360"/>
                <a:ext cx="4308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10066"/>
                    </a:solidFill>
                    <a:latin typeface="Arial"/>
                  </a:rPr>
                  <a:t>When 0 &lt; </a:t>
                </a:r>
                <a:r>
                  <a:rPr b="0" i="1" lang="en-GB" sz="2400" spc="-1" strike="noStrike">
                    <a:solidFill>
                      <a:srgbClr val="010066"/>
                    </a:solidFill>
                    <a:latin typeface="Times New Roman"/>
                  </a:rPr>
                  <a:t>a</a:t>
                </a:r>
                <a:r>
                  <a:rPr b="0" lang="en-GB" sz="2400" spc="-1" strike="noStrike">
                    <a:solidFill>
                      <a:srgbClr val="010066"/>
                    </a:solidFill>
                    <a:latin typeface="Arial"/>
                  </a:rPr>
                  <a:t> &lt; 1 the graph o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10066"/>
                    </a:solidFill>
                    <a:latin typeface="Times New Roman"/>
                  </a:rPr>
                  <a:t>y</a:t>
                </a:r>
                <a:r>
                  <a:rPr b="0" lang="en-GB" sz="2400" spc="-1" strike="noStrike">
                    <a:solidFill>
                      <a:srgbClr val="010066"/>
                    </a:solidFill>
                    <a:latin typeface="Arial"/>
                  </a:rPr>
                  <a:t> = </a:t>
                </a:r>
                <a:r>
                  <a:rPr b="0" i="1" lang="en-GB" sz="2400" spc="-1" strike="noStrike">
                    <a:solidFill>
                      <a:srgbClr val="010066"/>
                    </a:solidFill>
                    <a:latin typeface="Times New Roman"/>
                  </a:rPr>
                  <a:t>a</a:t>
                </a:r>
                <a:r>
                  <a:rPr b="0" i="1" lang="en-GB" sz="2400" spc="-1" strike="noStrike" baseline="30000">
                    <a:solidFill>
                      <a:srgbClr val="010066"/>
                    </a:solidFill>
                    <a:latin typeface="Times New Roman"/>
                  </a:rPr>
                  <a:t>x</a:t>
                </a:r>
                <a:r>
                  <a:rPr b="0" lang="en-GB" sz="2400" spc="-1" strike="noStrike">
                    <a:solidFill>
                      <a:srgbClr val="010066"/>
                    </a:solidFill>
                    <a:latin typeface="Arial"/>
                  </a:rPr>
                  <a:t> has the following shap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6300720" y="3474720"/>
                <a:ext cx="0" cy="170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00560" y="4941720"/>
                <a:ext cx="273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15240" y="32605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10066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742160" y="49417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10066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 flipH="1">
            <a:off x="5292720" y="3552840"/>
            <a:ext cx="2232000" cy="1244520"/>
          </a:xfrm>
          <a:custGeom>
            <a:avLst/>
            <a:gdLst/>
            <a:ahLst/>
            <a:rect l="l" t="t" r="r" b="b"/>
            <a:pathLst>
              <a:path w="953" h="590">
                <a:moveTo>
                  <a:pt x="0" y="590"/>
                </a:moveTo>
                <a:cubicBezTo>
                  <a:pt x="53" y="589"/>
                  <a:pt x="107" y="589"/>
                  <a:pt x="171" y="584"/>
                </a:cubicBezTo>
                <a:cubicBezTo>
                  <a:pt x="235" y="579"/>
                  <a:pt x="318" y="575"/>
                  <a:pt x="385" y="562"/>
                </a:cubicBezTo>
                <a:cubicBezTo>
                  <a:pt x="452" y="549"/>
                  <a:pt x="518" y="532"/>
                  <a:pt x="573" y="506"/>
                </a:cubicBezTo>
                <a:cubicBezTo>
                  <a:pt x="628" y="480"/>
                  <a:pt x="668" y="448"/>
                  <a:pt x="713" y="408"/>
                </a:cubicBezTo>
                <a:cubicBezTo>
                  <a:pt x="758" y="368"/>
                  <a:pt x="808" y="313"/>
                  <a:pt x="841" y="266"/>
                </a:cubicBezTo>
                <a:cubicBezTo>
                  <a:pt x="874" y="219"/>
                  <a:pt x="892" y="168"/>
                  <a:pt x="911" y="124"/>
                </a:cubicBezTo>
                <a:cubicBezTo>
                  <a:pt x="930" y="80"/>
                  <a:pt x="941" y="40"/>
                  <a:pt x="953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0720" y="3213000"/>
            <a:ext cx="3419640" cy="2232000"/>
            <a:chOff x="450720" y="3213000"/>
            <a:chExt cx="3419640" cy="2232000"/>
          </a:xfrm>
        </p:grpSpPr>
        <p:grpSp>
          <p:nvGrpSpPr>
            <p:cNvPr id="76" name=""/>
            <p:cNvGrpSpPr/>
            <p:nvPr/>
          </p:nvGrpSpPr>
          <p:grpSpPr>
            <a:xfrm>
              <a:off x="450720" y="3213000"/>
              <a:ext cx="3419640" cy="2232000"/>
              <a:chOff x="450720" y="3213000"/>
              <a:chExt cx="3419640" cy="2232000"/>
            </a:xfrm>
          </p:grpSpPr>
          <p:sp>
            <p:nvSpPr>
              <p:cNvPr id="77" name=""/>
              <p:cNvSpPr/>
              <p:nvPr/>
            </p:nvSpPr>
            <p:spPr>
              <a:xfrm>
                <a:off x="450720" y="3213000"/>
                <a:ext cx="3419640" cy="2232000"/>
              </a:xfrm>
              <a:prstGeom prst="rect">
                <a:avLst/>
              </a:prstGeom>
              <a:solidFill>
                <a:srgbClr val="d5dce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0360" y="3392280"/>
                <a:ext cx="3058920" cy="1871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 flipV="1">
              <a:off x="1690560" y="3473280"/>
              <a:ext cx="0" cy="171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2000" y="4941720"/>
              <a:ext cx="273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5080" y="32608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1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49080" y="4917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1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382400" y="4373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3440" y="4267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9536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en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&gt; 1 the graph of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a</a:t>
            </a:r>
            <a:r>
              <a:rPr b="0" i="1" lang="en-GB" sz="2400" spc="-1" strike="noStrike" baseline="30000">
                <a:solidFill>
                  <a:srgbClr val="010066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has the following sh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788160" y="4349880"/>
            <a:ext cx="775440" cy="464760"/>
            <a:chOff x="6788160" y="4349880"/>
            <a:chExt cx="775440" cy="464760"/>
          </a:xfrm>
        </p:grpSpPr>
        <p:sp>
          <p:nvSpPr>
            <p:cNvPr id="87" name=""/>
            <p:cNvSpPr/>
            <p:nvPr/>
          </p:nvSpPr>
          <p:spPr>
            <a:xfrm>
              <a:off x="6788160" y="4707000"/>
              <a:ext cx="108000" cy="107640"/>
            </a:xfrm>
            <a:prstGeom prst="ellipse">
              <a:avLst/>
            </a:prstGeom>
            <a:solidFill>
              <a:srgbClr val="ffd2b3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02200" y="434988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66"/>
                  </a:solidFill>
                  <a:latin typeface="Arial"/>
                </a:rPr>
                <a:t>(1, </a:t>
              </a:r>
              <a:r>
                <a:rPr b="0" i="1" lang="en-US" sz="2000" spc="-1" strike="noStrike">
                  <a:solidFill>
                    <a:srgbClr val="010066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100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00000" y="3552840"/>
            <a:ext cx="2232000" cy="1244520"/>
          </a:xfrm>
          <a:custGeom>
            <a:avLst/>
            <a:gdLst/>
            <a:ahLst/>
            <a:rect l="l" t="t" r="r" b="b"/>
            <a:pathLst>
              <a:path w="953" h="590">
                <a:moveTo>
                  <a:pt x="0" y="590"/>
                </a:moveTo>
                <a:cubicBezTo>
                  <a:pt x="53" y="589"/>
                  <a:pt x="107" y="589"/>
                  <a:pt x="171" y="584"/>
                </a:cubicBezTo>
                <a:cubicBezTo>
                  <a:pt x="235" y="579"/>
                  <a:pt x="318" y="575"/>
                  <a:pt x="385" y="562"/>
                </a:cubicBezTo>
                <a:cubicBezTo>
                  <a:pt x="452" y="549"/>
                  <a:pt x="518" y="532"/>
                  <a:pt x="573" y="506"/>
                </a:cubicBezTo>
                <a:cubicBezTo>
                  <a:pt x="628" y="480"/>
                  <a:pt x="668" y="448"/>
                  <a:pt x="713" y="408"/>
                </a:cubicBezTo>
                <a:cubicBezTo>
                  <a:pt x="758" y="368"/>
                  <a:pt x="808" y="313"/>
                  <a:pt x="841" y="266"/>
                </a:cubicBezTo>
                <a:cubicBezTo>
                  <a:pt x="874" y="219"/>
                  <a:pt x="892" y="168"/>
                  <a:pt x="911" y="124"/>
                </a:cubicBezTo>
                <a:cubicBezTo>
                  <a:pt x="930" y="80"/>
                  <a:pt x="941" y="40"/>
                  <a:pt x="953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57480" y="4506840"/>
            <a:ext cx="923040" cy="398880"/>
            <a:chOff x="2157480" y="4506840"/>
            <a:chExt cx="923040" cy="398880"/>
          </a:xfrm>
        </p:grpSpPr>
        <p:sp>
          <p:nvSpPr>
            <p:cNvPr id="91" name=""/>
            <p:cNvSpPr/>
            <p:nvPr/>
          </p:nvSpPr>
          <p:spPr>
            <a:xfrm>
              <a:off x="2157480" y="4573440"/>
              <a:ext cx="108000" cy="108000"/>
            </a:xfrm>
            <a:prstGeom prst="ellipse">
              <a:avLst/>
            </a:prstGeom>
            <a:solidFill>
              <a:srgbClr val="ffd2b3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19120" y="45068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66"/>
                  </a:solidFill>
                  <a:latin typeface="Arial"/>
                </a:rPr>
                <a:t>(1, </a:t>
              </a:r>
              <a:r>
                <a:rPr b="0" i="1" lang="en-US" sz="2000" spc="-1" strike="noStrike">
                  <a:solidFill>
                    <a:srgbClr val="010066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0100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8840" y="6095880"/>
            <a:ext cx="628560" cy="571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67640" y="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76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nking the exponential function an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of exponent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ShockwaveFlash1"/>
          <p:cNvGraphicFramePr/>
          <p:nvPr/>
        </p:nvGraphicFramePr>
        <p:xfrm>
          <a:off x="179280" y="907920"/>
          <a:ext cx="878544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7854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78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01" name="Straight Arrow Connector 18"/>
          <p:cNvCxnSpPr/>
          <p:nvPr/>
        </p:nvCxnSpPr>
        <p:spPr>
          <a:xfrm>
            <a:off x="5784480" y="4686480"/>
            <a:ext cx="2505960" cy="2160"/>
          </a:xfrm>
          <a:prstGeom prst="straightConnector1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102" name="Straight Arrow Connector 5"/>
          <p:cNvCxnSpPr/>
          <p:nvPr/>
        </p:nvCxnSpPr>
        <p:spPr>
          <a:xfrm flipV="1">
            <a:off x="2340000" y="3452400"/>
            <a:ext cx="2160" cy="1799280"/>
          </a:xfrm>
          <a:prstGeom prst="straightConnector1">
            <a:avLst/>
          </a:prstGeom>
          <a:ln w="381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03" name="Freeform 29"/>
          <p:cNvSpPr/>
          <p:nvPr/>
        </p:nvSpPr>
        <p:spPr>
          <a:xfrm>
            <a:off x="6446880" y="4130640"/>
            <a:ext cx="1646280" cy="1492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8"/>
          <p:cNvSpPr/>
          <p:nvPr/>
        </p:nvSpPr>
        <p:spPr>
          <a:xfrm>
            <a:off x="1447920" y="3673440"/>
            <a:ext cx="1692000" cy="1143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le 12"/>
          <p:cNvSpPr/>
          <p:nvPr/>
        </p:nvSpPr>
        <p:spPr>
          <a:xfrm>
            <a:off x="971640" y="1773360"/>
            <a:ext cx="325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82a"/>
                </a:solidFill>
                <a:latin typeface="Comic Sans MS"/>
              </a:rPr>
              <a:t>Exponential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le 12"/>
          <p:cNvSpPr/>
          <p:nvPr/>
        </p:nvSpPr>
        <p:spPr>
          <a:xfrm>
            <a:off x="5580000" y="1773360"/>
            <a:ext cx="325764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f82a"/>
                </a:solidFill>
                <a:latin typeface="Comic Sans MS"/>
              </a:rPr>
              <a:t>Logarithmic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8"/>
          <p:cNvSpPr/>
          <p:nvPr/>
        </p:nvSpPr>
        <p:spPr>
          <a:xfrm flipH="1">
            <a:off x="4873680" y="2433600"/>
            <a:ext cx="1440" cy="36212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6"/>
          <p:cNvCxnSpPr/>
          <p:nvPr/>
        </p:nvCxnSpPr>
        <p:spPr>
          <a:xfrm>
            <a:off x="1806120" y="4884840"/>
            <a:ext cx="2505960" cy="2160"/>
          </a:xfrm>
          <a:prstGeom prst="straightConnector1">
            <a:avLst/>
          </a:prstGeom>
          <a:ln w="381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09" name="TextBox 8"/>
          <p:cNvSpPr/>
          <p:nvPr/>
        </p:nvSpPr>
        <p:spPr>
          <a:xfrm>
            <a:off x="1888200" y="31258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044960" y="49878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17"/>
          <p:cNvCxnSpPr/>
          <p:nvPr/>
        </p:nvCxnSpPr>
        <p:spPr>
          <a:xfrm flipV="1">
            <a:off x="6307560" y="3254040"/>
            <a:ext cx="11880" cy="2613600"/>
          </a:xfrm>
          <a:prstGeom prst="straightConnector1">
            <a:avLst/>
          </a:prstGeom>
          <a:ln w="381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12" name="TextBox 19"/>
          <p:cNvSpPr/>
          <p:nvPr/>
        </p:nvSpPr>
        <p:spPr>
          <a:xfrm>
            <a:off x="5865840" y="292752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8023320" y="478944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1506600" y="41148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70160" y="4465800"/>
            <a:ext cx="1382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5"/>
          <p:cNvSpPr/>
          <p:nvPr/>
        </p:nvSpPr>
        <p:spPr>
          <a:xfrm>
            <a:off x="6779520" y="47703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6"/>
          <p:cNvSpPr/>
          <p:nvPr/>
        </p:nvSpPr>
        <p:spPr>
          <a:xfrm>
            <a:off x="6765840" y="4618080"/>
            <a:ext cx="138240" cy="1522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692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inking the exponential function and the logarithmic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2"/>
          <p:cNvGrpSpPr/>
          <p:nvPr/>
        </p:nvGrpSpPr>
        <p:grpSpPr>
          <a:xfrm>
            <a:off x="1119240" y="2054160"/>
            <a:ext cx="4267080" cy="3201840"/>
            <a:chOff x="1119240" y="2054160"/>
            <a:chExt cx="4267080" cy="3201840"/>
          </a:xfrm>
        </p:grpSpPr>
        <p:graphicFrame>
          <p:nvGraphicFramePr>
            <p:cNvPr id="124" name="Object 4"/>
            <p:cNvGraphicFramePr/>
            <p:nvPr/>
          </p:nvGraphicFramePr>
          <p:xfrm>
            <a:off x="1119240" y="2054160"/>
            <a:ext cx="4267080" cy="3201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5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9240" y="2054160"/>
                      <a:ext cx="4267080" cy="3201840"/>
                    </a:xfrm>
                    <a:prstGeom prst="rect">
                      <a:avLst/>
                    </a:prstGeom>
                    <a:ln w="38160">
                      <a:solidFill>
                        <a:srgbClr val="96969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Object 5"/>
            <p:cNvGraphicFramePr/>
            <p:nvPr/>
          </p:nvGraphicFramePr>
          <p:xfrm>
            <a:off x="3024360" y="2162160"/>
            <a:ext cx="990360" cy="365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24360" y="2162160"/>
                      <a:ext cx="99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6"/>
            <p:cNvGraphicFramePr/>
            <p:nvPr/>
          </p:nvGraphicFramePr>
          <p:xfrm>
            <a:off x="4284720" y="2882880"/>
            <a:ext cx="912960" cy="36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9" name="Object 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84720" y="2882880"/>
                      <a:ext cx="9129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7"/>
            <p:cNvGraphicFramePr/>
            <p:nvPr/>
          </p:nvGraphicFramePr>
          <p:xfrm>
            <a:off x="1728720" y="3044880"/>
            <a:ext cx="533520" cy="325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1" name="Object 7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28720" y="304488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8"/>
            <p:cNvGraphicFramePr/>
            <p:nvPr/>
          </p:nvGraphicFramePr>
          <p:xfrm>
            <a:off x="3100320" y="4111560"/>
            <a:ext cx="533520" cy="325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33" name="Object 8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00320" y="4111560"/>
                      <a:ext cx="5335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Text Box 8"/>
          <p:cNvSpPr/>
          <p:nvPr/>
        </p:nvSpPr>
        <p:spPr>
          <a:xfrm>
            <a:off x="5896080" y="17496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chapter 2.2 we found that the exponential function has an inverse function, called the logarithmic 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6048360" y="4187880"/>
          <a:ext cx="2743200" cy="1508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48360" y="4187880"/>
                    <a:ext cx="2743200" cy="150804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4646520" y="3246480"/>
          <a:ext cx="685800" cy="363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46520" y="3246480"/>
                    <a:ext cx="685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11"/>
          <p:cNvSpPr/>
          <p:nvPr/>
        </p:nvSpPr>
        <p:spPr>
          <a:xfrm>
            <a:off x="179280" y="58644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log function is the inverse of the exponential function, so it ‘undoes’ the exponential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0400" y="312840"/>
            <a:ext cx="592308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the Exponential          and the Logarithm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2"/>
          <p:cNvGraphicFramePr/>
          <p:nvPr/>
        </p:nvGraphicFramePr>
        <p:xfrm>
          <a:off x="1042920" y="2698920"/>
          <a:ext cx="7962840" cy="276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698920"/>
                    <a:ext cx="7962840" cy="276048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Text Box 3"/>
          <p:cNvSpPr/>
          <p:nvPr/>
        </p:nvSpPr>
        <p:spPr>
          <a:xfrm>
            <a:off x="5556240" y="35654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565600" y="3962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668920" y="4308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xponential and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20000" y="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2"/>
          <p:cNvGraphicFramePr/>
          <p:nvPr/>
        </p:nvGraphicFramePr>
        <p:xfrm>
          <a:off x="2124000" y="1557360"/>
          <a:ext cx="6477120" cy="224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557360"/>
                    <a:ext cx="6477120" cy="224460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Text Box 3"/>
          <p:cNvSpPr/>
          <p:nvPr/>
        </p:nvSpPr>
        <p:spPr>
          <a:xfrm>
            <a:off x="5796000" y="2205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796000" y="2565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867280" y="28526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755640" y="36450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976320" y="4005360"/>
            <a:ext cx="81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1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    to what power gives       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976320" y="4581360"/>
            <a:ext cx="81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    to what power gives       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2771640" y="5229360"/>
          <a:ext cx="71136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5229360"/>
                    <a:ext cx="711360" cy="79992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4" name="Text Box 13"/>
          <p:cNvSpPr/>
          <p:nvPr/>
        </p:nvSpPr>
        <p:spPr>
          <a:xfrm>
            <a:off x="976320" y="5373720"/>
            <a:ext cx="81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    to what power gives        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059280" y="39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4788000" y="39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8028000" y="393372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788000" y="4508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8101080" y="4508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3564000" y="544500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4859280" y="537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0400" y="312840"/>
            <a:ext cx="592308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the Exponential          and the Logarithm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2987640" y="4508640"/>
          <a:ext cx="449280" cy="63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4508640"/>
                    <a:ext cx="449280" cy="63504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5" name="Object 5"/>
          <p:cNvGraphicFramePr/>
          <p:nvPr/>
        </p:nvGraphicFramePr>
        <p:xfrm>
          <a:off x="8028000" y="5300640"/>
          <a:ext cx="642960" cy="723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028000" y="5300640"/>
                    <a:ext cx="642960" cy="723960"/>
                  </a:xfrm>
                  <a:prstGeom prst="rect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3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6764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 3   Outco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ties of a Straigh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836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ion of a straigh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773360"/>
            <a:ext cx="8424720" cy="2037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40  Ex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 to Q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skills  get used to the way the question is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4365720"/>
            <a:ext cx="3745080" cy="78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ework for Tu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Q9 and Q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23:13Z</dcterms:created>
  <dc:creator>Caroline</dc:creator>
  <dc:description/>
  <dc:language>en-US</dc:language>
  <cp:lastModifiedBy>Caroline</cp:lastModifiedBy>
  <dcterms:modified xsi:type="dcterms:W3CDTF">2009-02-01T22:52:18Z</dcterms:modified>
  <cp:revision>14</cp:revision>
  <dc:subject/>
  <dc:title>Slide 1</dc:title>
</cp:coreProperties>
</file>